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94103-9BD3-4087-869E-F86C2E1470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975BA-08EE-4B5C-8033-E72A46384E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79D4E-612F-4D66-B056-23405662A3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3442A-310D-48BC-BB8D-EC66776E77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98C17-07B0-407A-B780-DBD2DFE712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4C1C6-7000-4531-A5E5-867DED2C69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9A614-30B2-4734-AB4A-90D1DDF84B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5B5F6-BF81-4DF4-A436-1039FDF3C0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CDB87-2674-4947-A783-107051EC30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79CAE-8A2A-4ABB-8704-7E0B21A42B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00A09-12A2-42F1-A632-BA50F5D941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7C111-4D7B-4B88-8421-7613C9A3A1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10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82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954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954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59480" y="624816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C5F0-7152-4EFD-9F2B-A76A27764C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ll Ringer:9-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a structure that is the center of sumerian citi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Slide Number Placeholder 3"/>
          <p:cNvSpPr/>
          <p:nvPr/>
        </p:nvSpPr>
        <p:spPr>
          <a:xfrm>
            <a:off x="7359480" y="6248520"/>
            <a:ext cx="292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8A78-E1BC-4DD3-96AA-43C1C36597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G 11- Babylonian N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G 12: Meso Empires c-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lide Number Placeholder 3"/>
          <p:cNvSpPr/>
          <p:nvPr/>
        </p:nvSpPr>
        <p:spPr>
          <a:xfrm>
            <a:off x="7359480" y="6248520"/>
            <a:ext cx="292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80D4-945B-4154-A151-AA7922FAAC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622440"/>
            <a:ext cx="7924680" cy="1790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d99"/>
                </a:solidFill>
                <a:latin typeface="Comic Sans MS"/>
                <a:ea typeface="Comic Sans MS"/>
              </a:rPr>
              <a:t>2 Empires of Me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762120" y="2438280"/>
            <a:ext cx="7785000" cy="1511280"/>
            <a:chOff x="762120" y="2438280"/>
            <a:chExt cx="7785000" cy="1511280"/>
          </a:xfrm>
        </p:grpSpPr>
        <p:sp>
          <p:nvSpPr>
            <p:cNvPr id="47" name="Rectangle 2"/>
            <p:cNvSpPr/>
            <p:nvPr/>
          </p:nvSpPr>
          <p:spPr>
            <a:xfrm>
              <a:off x="762120" y="2438280"/>
              <a:ext cx="7785000" cy="1511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3"/>
            <p:cNvSpPr/>
            <p:nvPr/>
          </p:nvSpPr>
          <p:spPr>
            <a:xfrm>
              <a:off x="762120" y="2438280"/>
              <a:ext cx="7785000" cy="13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90b00"/>
                  </a:solidFill>
                  <a:latin typeface="Times New Roman"/>
                  <a:ea typeface="Times New Roman"/>
                </a:rPr>
                <a:t>After the Sumerians were defeated, Mesopotamia had 2 main </a:t>
              </a:r>
              <a:r>
                <a:rPr b="0" lang="en-US" sz="2400" spc="-1" strike="noStrike">
                  <a:solidFill>
                    <a:srgbClr val="d90b00"/>
                  </a:solidFill>
                  <a:latin typeface="Times New Roman Bold"/>
                  <a:ea typeface="Times New Roman Bold"/>
                </a:rPr>
                <a:t>empires</a:t>
              </a:r>
              <a:r>
                <a:rPr b="0" lang="en-US" sz="2400" spc="-1" strike="noStrike">
                  <a:solidFill>
                    <a:srgbClr val="d90b00"/>
                  </a:solidFill>
                  <a:latin typeface="Times New Roman"/>
                  <a:ea typeface="Times New Roman"/>
                </a:rPr>
                <a:t>: Babylonia and Assyri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 An empire is an area of many territories and people that are controlled by one governmen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Group 7"/>
          <p:cNvGrpSpPr/>
          <p:nvPr/>
        </p:nvGrpSpPr>
        <p:grpSpPr>
          <a:xfrm>
            <a:off x="838080" y="4343400"/>
            <a:ext cx="7861320" cy="482760"/>
            <a:chOff x="838080" y="4343400"/>
            <a:chExt cx="7861320" cy="482760"/>
          </a:xfrm>
        </p:grpSpPr>
        <p:sp>
          <p:nvSpPr>
            <p:cNvPr id="50" name="Rectangle 5"/>
            <p:cNvSpPr/>
            <p:nvPr/>
          </p:nvSpPr>
          <p:spPr>
            <a:xfrm>
              <a:off x="838080" y="4343400"/>
              <a:ext cx="7861320" cy="4827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6"/>
            <p:cNvSpPr/>
            <p:nvPr/>
          </p:nvSpPr>
          <p:spPr>
            <a:xfrm>
              <a:off x="838080" y="4343400"/>
              <a:ext cx="786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90b00"/>
                  </a:solidFill>
                  <a:latin typeface="Times New Roman"/>
                  <a:ea typeface="Times New Roman"/>
                </a:rPr>
                <a:t>Babylon lasted 1800 BC to 1600 BC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10"/>
          <p:cNvGrpSpPr/>
          <p:nvPr/>
        </p:nvGrpSpPr>
        <p:grpSpPr>
          <a:xfrm>
            <a:off x="838080" y="5410080"/>
            <a:ext cx="7861320" cy="482760"/>
            <a:chOff x="838080" y="5410080"/>
            <a:chExt cx="7861320" cy="482760"/>
          </a:xfrm>
        </p:grpSpPr>
        <p:sp>
          <p:nvSpPr>
            <p:cNvPr id="53" name="Rectangle 8"/>
            <p:cNvSpPr/>
            <p:nvPr/>
          </p:nvSpPr>
          <p:spPr>
            <a:xfrm>
              <a:off x="838080" y="5410080"/>
              <a:ext cx="7861320" cy="4827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9"/>
            <p:cNvSpPr/>
            <p:nvPr/>
          </p:nvSpPr>
          <p:spPr>
            <a:xfrm>
              <a:off x="838080" y="5410080"/>
              <a:ext cx="786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90b00"/>
                  </a:solidFill>
                  <a:latin typeface="Times New Roman"/>
                  <a:ea typeface="Times New Roman"/>
                </a:rPr>
                <a:t>Assyrian lasted 665 BC to 612 BC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3"/>
          <p:cNvGrpSpPr/>
          <p:nvPr/>
        </p:nvGrpSpPr>
        <p:grpSpPr>
          <a:xfrm>
            <a:off x="990720" y="380880"/>
            <a:ext cx="7480080" cy="914400"/>
            <a:chOff x="990720" y="380880"/>
            <a:chExt cx="7480080" cy="914400"/>
          </a:xfrm>
        </p:grpSpPr>
        <p:sp>
          <p:nvSpPr>
            <p:cNvPr id="56" name="Rectangle 1"/>
            <p:cNvSpPr/>
            <p:nvPr/>
          </p:nvSpPr>
          <p:spPr>
            <a:xfrm>
              <a:off x="990720" y="380880"/>
              <a:ext cx="7480080" cy="914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2"/>
            <p:cNvSpPr/>
            <p:nvPr/>
          </p:nvSpPr>
          <p:spPr>
            <a:xfrm>
              <a:off x="990720" y="380880"/>
              <a:ext cx="74800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ctr">
                <a:spcBef>
                  <a:spcPts val="31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2d99"/>
                  </a:solidFill>
                  <a:latin typeface="Times New Roman"/>
                  <a:ea typeface="Times New Roman"/>
                </a:rPr>
                <a:t>Trade Crossroad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Group 6"/>
          <p:cNvGrpSpPr/>
          <p:nvPr/>
        </p:nvGrpSpPr>
        <p:grpSpPr>
          <a:xfrm>
            <a:off x="787320" y="1511280"/>
            <a:ext cx="7556400" cy="1854360"/>
            <a:chOff x="787320" y="1511280"/>
            <a:chExt cx="7556400" cy="1854360"/>
          </a:xfrm>
        </p:grpSpPr>
        <p:sp>
          <p:nvSpPr>
            <p:cNvPr id="59" name="Rectangle 4"/>
            <p:cNvSpPr/>
            <p:nvPr/>
          </p:nvSpPr>
          <p:spPr>
            <a:xfrm>
              <a:off x="787320" y="1511280"/>
              <a:ext cx="7556400" cy="1854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5"/>
            <p:cNvSpPr/>
            <p:nvPr/>
          </p:nvSpPr>
          <p:spPr>
            <a:xfrm>
              <a:off x="787320" y="1511280"/>
              <a:ext cx="75564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bylon’s location made it a good place for trade.</a:t>
              </a:r>
              <a:r>
                <a:rPr b="0" lang="en-US" sz="2400" spc="-1" strike="noStrike">
                  <a:solidFill>
                    <a:srgbClr val="d90b00"/>
                  </a:solidFill>
                  <a:latin typeface="Times New Roman"/>
                  <a:ea typeface="Times New Roman"/>
                </a:rPr>
                <a:t>  Groups of travelers, called </a:t>
              </a:r>
              <a:r>
                <a:rPr b="0" lang="en-US" sz="2400" spc="-1" strike="noStrike">
                  <a:solidFill>
                    <a:srgbClr val="d90b00"/>
                  </a:solidFill>
                  <a:latin typeface="Times New Roman Bold"/>
                  <a:ea typeface="Times New Roman Bold"/>
                </a:rPr>
                <a:t>caravans</a:t>
              </a:r>
              <a:r>
                <a:rPr b="0" lang="en-US" sz="2400" spc="-1" strike="noStrike">
                  <a:solidFill>
                    <a:srgbClr val="d90b00"/>
                  </a:solidFill>
                  <a:latin typeface="Times New Roman"/>
                  <a:ea typeface="Times New Roman"/>
                </a:rPr>
                <a:t>,  stopped in Babylon to trad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Group 9"/>
          <p:cNvGrpSpPr/>
          <p:nvPr/>
        </p:nvGrpSpPr>
        <p:grpSpPr>
          <a:xfrm>
            <a:off x="685800" y="3581280"/>
            <a:ext cx="3289320" cy="2882880"/>
            <a:chOff x="685800" y="3581280"/>
            <a:chExt cx="3289320" cy="2882880"/>
          </a:xfrm>
        </p:grpSpPr>
        <p:sp>
          <p:nvSpPr>
            <p:cNvPr id="62" name="Rectangle 7"/>
            <p:cNvSpPr/>
            <p:nvPr/>
          </p:nvSpPr>
          <p:spPr>
            <a:xfrm>
              <a:off x="685800" y="3581280"/>
              <a:ext cx="3289320" cy="28828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8"/>
            <p:cNvSpPr/>
            <p:nvPr/>
          </p:nvSpPr>
          <p:spPr>
            <a:xfrm>
              <a:off x="685800" y="3581280"/>
              <a:ext cx="32893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90b00"/>
                  </a:solidFill>
                  <a:latin typeface="Times New Roman"/>
                  <a:ea typeface="Times New Roman"/>
                </a:rPr>
                <a:t>Babylon had special markets, called </a:t>
              </a:r>
              <a:r>
                <a:rPr b="0" lang="en-US" sz="2400" spc="-1" strike="noStrike">
                  <a:solidFill>
                    <a:srgbClr val="d90b00"/>
                  </a:solidFill>
                  <a:latin typeface="Times New Roman Bold"/>
                  <a:ea typeface="Times New Roman Bold"/>
                </a:rPr>
                <a:t>bazaars</a:t>
              </a:r>
              <a:r>
                <a:rPr b="0" lang="en-US" sz="2400" spc="-1" strike="noStrike">
                  <a:solidFill>
                    <a:srgbClr val="d90b00"/>
                  </a:solidFill>
                  <a:latin typeface="Times New Roman"/>
                  <a:ea typeface="Times New Roman"/>
                </a:rPr>
                <a:t> (todays mall) became rich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4" name="Picture 10" descr=""/>
          <p:cNvPicPr/>
          <p:nvPr/>
        </p:nvPicPr>
        <p:blipFill>
          <a:blip r:embed="rId4"/>
          <a:stretch/>
        </p:blipFill>
        <p:spPr>
          <a:xfrm>
            <a:off x="4038480" y="3733920"/>
            <a:ext cx="4972320" cy="2857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3"/>
          <p:cNvGrpSpPr/>
          <p:nvPr/>
        </p:nvGrpSpPr>
        <p:grpSpPr>
          <a:xfrm>
            <a:off x="914400" y="228600"/>
            <a:ext cx="7404120" cy="914400"/>
            <a:chOff x="914400" y="228600"/>
            <a:chExt cx="7404120" cy="914400"/>
          </a:xfrm>
        </p:grpSpPr>
        <p:sp>
          <p:nvSpPr>
            <p:cNvPr id="66" name="Rectangle 1"/>
            <p:cNvSpPr/>
            <p:nvPr/>
          </p:nvSpPr>
          <p:spPr>
            <a:xfrm>
              <a:off x="914400" y="228600"/>
              <a:ext cx="7404120" cy="914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2"/>
            <p:cNvSpPr/>
            <p:nvPr/>
          </p:nvSpPr>
          <p:spPr>
            <a:xfrm>
              <a:off x="914400" y="228600"/>
              <a:ext cx="74041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ctr">
                <a:spcBef>
                  <a:spcPts val="31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3dcc"/>
                  </a:solidFill>
                  <a:latin typeface="Times New Roman"/>
                  <a:ea typeface="Times New Roman"/>
                </a:rPr>
                <a:t>Conquered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Group 6"/>
          <p:cNvGrpSpPr/>
          <p:nvPr/>
        </p:nvGrpSpPr>
        <p:grpSpPr>
          <a:xfrm>
            <a:off x="127080" y="1219320"/>
            <a:ext cx="8889480" cy="6565680"/>
            <a:chOff x="127080" y="1219320"/>
            <a:chExt cx="8889480" cy="6565680"/>
          </a:xfrm>
        </p:grpSpPr>
        <p:sp>
          <p:nvSpPr>
            <p:cNvPr id="69" name="Rectangle 4"/>
            <p:cNvSpPr/>
            <p:nvPr/>
          </p:nvSpPr>
          <p:spPr>
            <a:xfrm>
              <a:off x="127080" y="1219320"/>
              <a:ext cx="8889480" cy="6565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5"/>
            <p:cNvSpPr/>
            <p:nvPr/>
          </p:nvSpPr>
          <p:spPr>
            <a:xfrm>
              <a:off x="127080" y="1219320"/>
              <a:ext cx="8889480" cy="44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900" spc="-1" strike="noStrike">
                  <a:solidFill>
                    <a:srgbClr val="d90b00"/>
                  </a:solidFill>
                  <a:latin typeface="Times New Roman"/>
                  <a:ea typeface="Times New Roman"/>
                </a:rPr>
                <a:t>After Hammurabi died the leaders were weak= Babylon kept getting smaller and smaller until </a:t>
              </a:r>
              <a:r>
                <a:rPr b="0" lang="en-US" sz="6400" spc="-1" strike="noStrike">
                  <a:solidFill>
                    <a:srgbClr val="d90b00"/>
                  </a:solidFill>
                  <a:latin typeface="Times New Roman"/>
                  <a:ea typeface="Times New Roman"/>
                </a:rPr>
                <a:t>end</a:t>
              </a:r>
              <a:endParaRPr b="0" lang="en-US" sz="6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3"/>
          <p:cNvGrpSpPr/>
          <p:nvPr/>
        </p:nvGrpSpPr>
        <p:grpSpPr>
          <a:xfrm>
            <a:off x="838080" y="152280"/>
            <a:ext cx="7327800" cy="825480"/>
            <a:chOff x="838080" y="152280"/>
            <a:chExt cx="7327800" cy="825480"/>
          </a:xfrm>
        </p:grpSpPr>
        <p:sp>
          <p:nvSpPr>
            <p:cNvPr id="72" name="Rectangle 1"/>
            <p:cNvSpPr/>
            <p:nvPr/>
          </p:nvSpPr>
          <p:spPr>
            <a:xfrm>
              <a:off x="838080" y="152280"/>
              <a:ext cx="7327800" cy="825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2"/>
            <p:cNvSpPr/>
            <p:nvPr/>
          </p:nvSpPr>
          <p:spPr>
            <a:xfrm>
              <a:off x="838080" y="152280"/>
              <a:ext cx="73278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3dcc"/>
                  </a:solidFill>
                  <a:latin typeface="Times New Roman"/>
                  <a:ea typeface="Times New Roman"/>
                </a:rPr>
                <a:t>Rise to Power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Group 6"/>
          <p:cNvGrpSpPr/>
          <p:nvPr/>
        </p:nvGrpSpPr>
        <p:grpSpPr>
          <a:xfrm>
            <a:off x="152280" y="1066680"/>
            <a:ext cx="8089920" cy="2413080"/>
            <a:chOff x="152280" y="1066680"/>
            <a:chExt cx="8089920" cy="2413080"/>
          </a:xfrm>
        </p:grpSpPr>
        <p:sp>
          <p:nvSpPr>
            <p:cNvPr id="75" name="Rectangle 4"/>
            <p:cNvSpPr/>
            <p:nvPr/>
          </p:nvSpPr>
          <p:spPr>
            <a:xfrm>
              <a:off x="152280" y="1066680"/>
              <a:ext cx="8089920" cy="2413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5"/>
            <p:cNvSpPr/>
            <p:nvPr/>
          </p:nvSpPr>
          <p:spPr>
            <a:xfrm>
              <a:off x="152280" y="1066680"/>
              <a:ext cx="8089920" cy="22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>
                <a:spcBef>
                  <a:spcPts val="11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d90b00"/>
                  </a:solidFill>
                  <a:latin typeface="Times New Roman"/>
                  <a:ea typeface="Times New Roman"/>
                </a:rPr>
                <a:t>1365 B.C.-Assyrians decided that the best defense was to attack first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>
                <a:spcBef>
                  <a:spcPts val="11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d90b00"/>
                  </a:solidFill>
                  <a:latin typeface="Times New Roman"/>
                  <a:ea typeface="Times New Roman"/>
                </a:rPr>
                <a:t>650 B.C-owned90% of l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>
                <a:spcBef>
                  <a:spcPts val="11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d90b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d90b00"/>
                  </a:solidFill>
                  <a:latin typeface="Times New Roman"/>
                  <a:ea typeface="Times New Roman"/>
                </a:rPr>
                <a:t>King Sargon II =rul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90b00"/>
                  </a:solidFill>
                  <a:latin typeface="Times New Roman"/>
                  <a:ea typeface="Times New Roman"/>
                </a:rPr>
                <a:t>capital=Nineveh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Picture 7" descr=""/>
          <p:cNvPicPr/>
          <p:nvPr/>
        </p:nvPicPr>
        <p:blipFill>
          <a:blip r:embed="rId3"/>
          <a:stretch/>
        </p:blipFill>
        <p:spPr>
          <a:xfrm>
            <a:off x="3809880" y="3506760"/>
            <a:ext cx="4114800" cy="3351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3"/>
          <p:cNvGrpSpPr/>
          <p:nvPr/>
        </p:nvGrpSpPr>
        <p:grpSpPr>
          <a:xfrm>
            <a:off x="1219320" y="304920"/>
            <a:ext cx="7327800" cy="723960"/>
            <a:chOff x="1219320" y="304920"/>
            <a:chExt cx="7327800" cy="723960"/>
          </a:xfrm>
        </p:grpSpPr>
        <p:sp>
          <p:nvSpPr>
            <p:cNvPr id="79" name="Rectangle 1"/>
            <p:cNvSpPr/>
            <p:nvPr/>
          </p:nvSpPr>
          <p:spPr>
            <a:xfrm>
              <a:off x="1219320" y="304920"/>
              <a:ext cx="7327800" cy="7239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2"/>
            <p:cNvSpPr/>
            <p:nvPr/>
          </p:nvSpPr>
          <p:spPr>
            <a:xfrm>
              <a:off x="1219320" y="304920"/>
              <a:ext cx="73278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ctr">
                <a:spcBef>
                  <a:spcPts val="23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70c0"/>
                  </a:solidFill>
                  <a:latin typeface="Times New Roman"/>
                  <a:ea typeface="Times New Roman"/>
                </a:rPr>
                <a:t>New Babylonian Empir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Group 6"/>
          <p:cNvGrpSpPr/>
          <p:nvPr/>
        </p:nvGrpSpPr>
        <p:grpSpPr>
          <a:xfrm>
            <a:off x="12600" y="1022400"/>
            <a:ext cx="4089240" cy="5460840"/>
            <a:chOff x="12600" y="1022400"/>
            <a:chExt cx="4089240" cy="5460840"/>
          </a:xfrm>
        </p:grpSpPr>
        <p:sp>
          <p:nvSpPr>
            <p:cNvPr id="82" name="Rectangle 4"/>
            <p:cNvSpPr/>
            <p:nvPr/>
          </p:nvSpPr>
          <p:spPr>
            <a:xfrm>
              <a:off x="12600" y="1022400"/>
              <a:ext cx="4089240" cy="5460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5"/>
            <p:cNvSpPr/>
            <p:nvPr/>
          </p:nvSpPr>
          <p:spPr>
            <a:xfrm>
              <a:off x="12600" y="1022400"/>
              <a:ext cx="4089240" cy="39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612 BC= Chaldeans conquered Assyrians.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king of empire=Nebuchadnezzar II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e rebuilt Babylon and put massive walls around the city to protect it. He also built a great palace with hanging garden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4673520" y="1689120"/>
            <a:ext cx="4800600" cy="4724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3"/>
          <p:cNvGrpSpPr/>
          <p:nvPr/>
        </p:nvGrpSpPr>
        <p:grpSpPr>
          <a:xfrm>
            <a:off x="609480" y="380880"/>
            <a:ext cx="8242200" cy="660240"/>
            <a:chOff x="609480" y="380880"/>
            <a:chExt cx="8242200" cy="660240"/>
          </a:xfrm>
        </p:grpSpPr>
        <p:sp>
          <p:nvSpPr>
            <p:cNvPr id="86" name="Rectangle 1"/>
            <p:cNvSpPr/>
            <p:nvPr/>
          </p:nvSpPr>
          <p:spPr>
            <a:xfrm>
              <a:off x="609480" y="380880"/>
              <a:ext cx="8242200" cy="6602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2"/>
            <p:cNvSpPr/>
            <p:nvPr/>
          </p:nvSpPr>
          <p:spPr>
            <a:xfrm>
              <a:off x="609480" y="380880"/>
              <a:ext cx="82422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ctr">
                <a:spcBef>
                  <a:spcPts val="2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3dcc"/>
                  </a:solidFill>
                  <a:latin typeface="Times New Roman"/>
                  <a:ea typeface="Times New Roman"/>
                </a:rPr>
                <a:t>Fal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Group 6"/>
          <p:cNvGrpSpPr/>
          <p:nvPr/>
        </p:nvGrpSpPr>
        <p:grpSpPr>
          <a:xfrm>
            <a:off x="762120" y="1447920"/>
            <a:ext cx="2603520" cy="4254480"/>
            <a:chOff x="762120" y="1447920"/>
            <a:chExt cx="2603520" cy="4254480"/>
          </a:xfrm>
        </p:grpSpPr>
        <p:sp>
          <p:nvSpPr>
            <p:cNvPr id="89" name="Rectangle 4"/>
            <p:cNvSpPr/>
            <p:nvPr/>
          </p:nvSpPr>
          <p:spPr>
            <a:xfrm>
              <a:off x="762120" y="1447920"/>
              <a:ext cx="2603520" cy="4254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5"/>
            <p:cNvSpPr/>
            <p:nvPr/>
          </p:nvSpPr>
          <p:spPr>
            <a:xfrm>
              <a:off x="762120" y="1447920"/>
              <a:ext cx="2603520" cy="30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539=empire defeated by pers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leader=Cyr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00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ough the Chaldeans were defeated, the city of Babylon was spared from destruc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1" name="Picture 7" descr=""/>
          <p:cNvPicPr/>
          <p:nvPr/>
        </p:nvPicPr>
        <p:blipFill>
          <a:blip r:embed="rId3"/>
          <a:stretch/>
        </p:blipFill>
        <p:spPr>
          <a:xfrm>
            <a:off x="3581280" y="1523880"/>
            <a:ext cx="4876920" cy="4253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cp:keywords/>
  <dc:language>en-US</dc:language>
  <cp:lastModifiedBy>TylerDaughtry</cp:lastModifiedBy>
  <dcterms:modified xsi:type="dcterms:W3CDTF">2013-09-24T16:55:53Z</dcterms:modified>
  <cp:revision>4</cp:revision>
  <dc:subject/>
  <dc:title>The Fertile Crescent</dc:title>
</cp:coreProperties>
</file>